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9.wmf" ContentType="image/x-wmf"/>
  <Override PartName="/ppt/media/image16.wmf" ContentType="image/x-wmf"/>
  <Override PartName="/ppt/media/image14.wmf" ContentType="image/x-wmf"/>
  <Override PartName="/ppt/media/image1.png" ContentType="image/png"/>
  <Override PartName="/ppt/media/image5.jpeg" ContentType="image/jpeg"/>
  <Override PartName="/ppt/media/image18.wmf" ContentType="image/x-wmf"/>
  <Override PartName="/ppt/media/image2.jpeg" ContentType="image/jpeg"/>
  <Override PartName="/ppt/media/image11.wmf" ContentType="image/x-wmf"/>
  <Override PartName="/ppt/media/image3.png" ContentType="image/png"/>
  <Override PartName="/ppt/media/image6.jpeg" ContentType="image/jpeg"/>
  <Override PartName="/ppt/media/image12.wmf" ContentType="image/x-wmf"/>
  <Override PartName="/ppt/media/image4.png" ContentType="image/png"/>
  <Override PartName="/ppt/media/image15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9ABA7-21ED-4A24-8FE8-E3D42F0840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FD0E8-1CA8-4E16-8D49-66E8F799CF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81251-E68F-46BE-94B5-4477C4AEC4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31EAF-781B-4690-A538-4DCBC680EF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C79D5-00F8-4000-866A-DF5092E83D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218BD-4DEA-4CCD-A004-ABEA8DCA3A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B2FF8-2796-4C91-9047-92D90DC3B2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EB552-72AF-4E21-B691-3C66B8FE3F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A3475-12E2-4260-8546-FD78DDCBE8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9501A-4500-483A-8068-68D690F856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8991F-6050-4218-B881-00A09E4813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70B82-568C-4FB5-97C3-37EEF8A7F5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92E7C-A1A1-485C-8F91-217CC167FE5A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0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ventures in Mig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ettyann Johnsen, MetLif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nstallation of Multiple Fixpack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difference between CSDs, Fixpacks, APARs and PTFs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used to installing…it builds confidenc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029040" y="3687840"/>
            <a:ext cx="2369880" cy="181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42B8D-2138-4D7C-88CE-BB488BC4B0B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ocumentation for End User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47240" y="2955600"/>
            <a:ext cx="73486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d share drive for end users/site support to access software, Fixpack's and manu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d installation instructions specific to Met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DI 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B2 Connect v8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ng multiple systems within WDI 3.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602320" y="668160"/>
            <a:ext cx="2566800" cy="2316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B3C21-46BC-4E51-9FBE-B4DA900DF68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2040" y="545760"/>
            <a:ext cx="5770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etLife Client-Server Configur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0200" y="3070080"/>
            <a:ext cx="1720800" cy="59544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DI 3.2 Cli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21160" y="3097080"/>
            <a:ext cx="1549440" cy="58284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B2Conn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/>
          <p:nvPr/>
        </p:nvCxnSpPr>
        <p:spPr>
          <a:xfrm>
            <a:off x="2606400" y="3373200"/>
            <a:ext cx="72756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164" name=""/>
          <p:cNvCxnSpPr>
            <a:stCxn id="161" idx="3"/>
            <a:endCxn id="162" idx="1"/>
          </p:cNvCxnSpPr>
          <p:nvPr/>
        </p:nvCxnSpPr>
        <p:spPr>
          <a:xfrm>
            <a:off x="2440080" y="3368520"/>
            <a:ext cx="1062720" cy="2160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165" name=""/>
          <p:cNvCxnSpPr>
            <a:stCxn id="166" idx="0"/>
            <a:endCxn id="166" idx="1"/>
          </p:cNvCxnSpPr>
          <p:nvPr/>
        </p:nvCxnSpPr>
        <p:spPr>
          <a:xfrm flipH="1">
            <a:off x="2466360" y="3379320"/>
            <a:ext cx="101340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7" name=""/>
          <p:cNvCxnSpPr>
            <a:stCxn id="166" idx="2"/>
            <a:endCxn id="166" idx="3"/>
          </p:cNvCxnSpPr>
          <p:nvPr/>
        </p:nvCxnSpPr>
        <p:spPr>
          <a:xfrm flipH="1">
            <a:off x="2466360" y="3379320"/>
            <a:ext cx="101340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6" name=""/>
          <p:cNvSpPr/>
          <p:nvPr/>
        </p:nvSpPr>
        <p:spPr>
          <a:xfrm>
            <a:off x="2486160" y="3230640"/>
            <a:ext cx="974520" cy="298440"/>
          </a:xfrm>
          <a:prstGeom prst="leftRightArrow">
            <a:avLst>
              <a:gd name="adj1" fmla="val 50000"/>
              <a:gd name="adj2" fmla="val 65005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368440" y="2727360"/>
            <a:ext cx="13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Lin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1960" y="4630680"/>
            <a:ext cx="1084320" cy="701640"/>
          </a:xfrm>
          <a:prstGeom prst="flowChartMagneticDisk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35160" y="3703680"/>
            <a:ext cx="284040" cy="887400"/>
          </a:xfrm>
          <a:prstGeom prst="upDownArrow">
            <a:avLst>
              <a:gd name="adj1" fmla="val 50000"/>
              <a:gd name="adj2" fmla="val 62195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243480" y="1096920"/>
            <a:ext cx="2394000" cy="4578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629400" y="1535040"/>
            <a:ext cx="1600200" cy="129564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bSpher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chan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57720" y="3271680"/>
            <a:ext cx="820800" cy="141480"/>
          </a:xfrm>
          <a:prstGeom prst="leftRightArrow">
            <a:avLst>
              <a:gd name="adj1" fmla="val 50000"/>
              <a:gd name="adj2" fmla="val 115493"/>
            </a:avLst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69000" y="273852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21000" y="4033800"/>
            <a:ext cx="14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291080" y="3047760"/>
            <a:ext cx="1222200" cy="55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66000"/>
          </a:bodyPr>
          <a:p>
            <a:pPr marL="15084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S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084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ach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891480" y="2884320"/>
            <a:ext cx="225360" cy="965520"/>
          </a:xfrm>
          <a:prstGeom prst="upDownArrow">
            <a:avLst>
              <a:gd name="adj1" fmla="val 50000"/>
              <a:gd name="adj2" fmla="val 85290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91480" y="3890880"/>
            <a:ext cx="1203120" cy="1017720"/>
          </a:xfrm>
          <a:prstGeom prst="flowChartMagneticDisk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08600" y="4986360"/>
            <a:ext cx="22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ystem databa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145280" y="727200"/>
            <a:ext cx="9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z/OS 1.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69880" y="5357880"/>
            <a:ext cx="226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fig 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9D57B-667A-4E4F-BEF5-125547E3D08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ssess Your Data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9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ested end user review of individual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migrate data objects currently 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862520" y="2298600"/>
            <a:ext cx="359892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810B5-FDF4-4B08-8E03-4EE8CE5676D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ommon WDI 3.2 Pitfall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70000" y="1326960"/>
            <a:ext cx="467028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ion/migration job is lengt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04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d to run job multiple times in lab environment due to “loose end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04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 experience for test and production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convert the standards in use prior to X12 4.1 - otherwise use client format download from the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22360" y="1550880"/>
            <a:ext cx="2262240" cy="390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4E943-1B4E-4E5A-BE86-F8A8CC562A9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urvival is Key!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the best laid plans can fail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B is 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with the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485040" y="1805040"/>
            <a:ext cx="1915920" cy="286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9B9F6-A355-4024-8090-5F4D3D7AB05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rovide Support As Neede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12400" y="2095200"/>
            <a:ext cx="7162920" cy="35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4560" indent="-21456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er data validation in WDI 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maps were converted but did not compile clea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d through missing mandatory seg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users required to make changes in two test systems for the time being - to keep systems in syn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 3.1 H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DI 3.2 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5386320" y="579600"/>
            <a:ext cx="2973600" cy="191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FA7FA-ADF3-41BB-BF04-40471DD5A51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ummary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79040" y="2292120"/>
            <a:ext cx="7348680" cy="35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survived!  So far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 environment exists for system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users have a stable test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gration testing contin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ion/migration job for production should be a breez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5575320" y="779400"/>
            <a:ext cx="2624040" cy="2281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1B18A-8F82-4D31-9A16-E83AA65CDB6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dventures in Migr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752560" y="3112560"/>
            <a:ext cx="3300480" cy="25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yann John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johnsen@metlife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209760" y="3706920"/>
            <a:ext cx="2124360" cy="49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73C20-F6A6-48C0-BD94-B55E6AB7EB2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1 U.S. Life Insurer  -  $2.5 trillion of life insurance in-fo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rgest non-medical health provider of institutional employee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7 million lives under group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nked #1 in most group product areas - life, auto and homeowners, and long-term c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s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115000"/>
              </a:lnSpc>
              <a:spcBef>
                <a:spcPts val="1001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.S. - 13 million househol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115000"/>
              </a:lnSpc>
              <a:spcBef>
                <a:spcPts val="1001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ational - 8 million customers in 11 lo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ted on NYSE - April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Life is in 1 out of every 5 households in the U.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182760" y="811080"/>
            <a:ext cx="2124360" cy="4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C2CBB-B58A-4927-9A24-B3F24F6B10C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spcBef>
                <a:spcPts val="2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s and Services offered by MetLife and its affiliates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1500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urance (Life, Long-Term Care, Disability, Dental, Auto &amp; Homeown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1500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u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1500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bank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182760" y="851040"/>
            <a:ext cx="2124360" cy="49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34925-88D4-4A00-8713-A81E8C8FCBA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y Objectives for the WDI 3.2 Migration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timately, to survive yet another migrati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Lab environment for system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stable test and production environments for end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 existing data objects to WDI 3.2 for immediate use by end user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5F2B9-EFA6-45C1-BD6B-3B93DD4220A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Know Your Environmen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82640" y="1652760"/>
            <a:ext cx="3160800" cy="326232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525840" y="1420560"/>
            <a:ext cx="5105520" cy="44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upgra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OS 12/31/04 - No other reason neede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-to-any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e of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we started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3.1 on z/OS 1.2 - Host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Connect v7.2 for Cli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- however, not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we are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3.2 on z/OS 1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Connect v8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D609C-CAED-4ED0-91DE-F89B50554D4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reate a Migration Pla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01800" y="1870200"/>
            <a:ext cx="455112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VS upgrade to z/OS 1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2 Connect upgrade to v8.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of all current   RSU Mainte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llation of multiple Fixp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ation for end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326200" y="1825560"/>
            <a:ext cx="3413160" cy="308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5FF33-6729-41DF-9D95-0115E96BF75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VS upgrade to z/OS 1.4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2400" y="2664000"/>
            <a:ext cx="7348680" cy="30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ing is everything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d WDI 3.2 on Lab environment and then   re-ipl’d operating system between z/OS 1.2 and z/OS 1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, test and then test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91000" y="789120"/>
            <a:ext cx="2067120" cy="21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2DF6E-6233-4781-B919-890F1ACBE63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iddleware:  Upgrade to DB2 Connect Version 8.1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06040" y="2953800"/>
            <a:ext cx="7348680" cy="31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ning on dedicated LPAR IBM P690 Regatta 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ching pairs of servers configured for test and produ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ary server onsite with secondary server failover off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Site Selector used for automated geographic failover for outages on primary server - greater “up”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 time updating to the host in client-server mode via ODBC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al for multi-user environment with concurrent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505240" y="1217520"/>
            <a:ext cx="3873240" cy="1724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738F4-30AA-4F59-B842-6040E002F66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pplication of RSU Maintenanc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82640" y="1498680"/>
            <a:ext cx="414648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! Do not neglect regular maintenance while completing the installation and migration to a new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maintenance across operating systems, DB2 sub-systems and LPAR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259240" y="1542960"/>
            <a:ext cx="345312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7964E-581C-4ED8-B631-AEABE156280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cp:lastPrinted>2004-07-30T12:21:29Z</cp:lastPrinted>
  <dcterms:modified xsi:type="dcterms:W3CDTF">2004-08-04T16:57:28Z</dcterms:modified>
  <cp:revision>934</cp:revision>
  <dc:subject/>
  <dc:title>IBM Software Group</dc:title>
</cp:coreProperties>
</file>